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F63-295A-4DE2-B161-70ECA04D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901-319E-4220-A2ED-D71913AC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19F-32D2-452B-8ECC-04ED972D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E94-04F2-461E-BB81-9BE86ED0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25A-022D-42AB-B6D8-20334B77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332-EAEA-490B-A178-48862515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5B9-E541-4791-8C65-774DF5F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A5D-A12F-4B6C-BB8A-06BFCB76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928-FE19-41EF-92D2-15584161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D48-3075-4DF0-B268-78A7953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F98-2535-497D-B75B-51B61F3F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74E-BA92-4C10-867F-405BDD11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B22D-D1EF-4E36-8720-06DA6FE0F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4280"/>
            <a:ext cx="9144000" cy="69498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c0c0c0"/>
                </a:solidFill>
                <a:latin typeface="comic"/>
              </a:rPr>
              <a:t>29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ден на радост свят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молитви и покло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кога вести земят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ния закон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ден пресвят, тър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отдих и покой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ен ден Бо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ай-светъл ден е то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600"/>
            <a:ext cx="9144000" cy="679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Църковните олтар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нес канят вси души: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еца, младежи, стари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Бог там ще утеши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азнува днес земят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деня на радостта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Ликуват небесат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царува любов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060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ворбата на всемир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ивърши Бог в тоз ден.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туй в нас не умир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тоз спомен осветен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ославяме със радост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ния Отец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тоз ден, изпълнен с святост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т нашия Твор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1400"/>
            <a:ext cx="9144000" cy="6797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бравили тревог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в почивния ден свят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приемаме от Бог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собна благодат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ден пресвят, тър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отдих и покой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бесен ден Божествен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ай-светъл ден е той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6:12:16Z</dcterms:created>
  <dc:creator>TrifonTrifonow</dc:creator>
  <dc:description/>
  <dc:language>en-US</dc:language>
  <cp:lastModifiedBy>TrifonTrifonow</cp:lastModifiedBy>
  <dcterms:modified xsi:type="dcterms:W3CDTF">2005-11-21T12:23:28Z</dcterms:modified>
  <cp:revision>10</cp:revision>
  <dc:subject/>
  <dc:title>Slide 1</dc:title>
</cp:coreProperties>
</file>